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B765-6007-48E1-BB8A-1C6F014B3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C774-937A-4CCF-A1EC-ED60E92FE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1380-4215-422A-9954-B84945723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3DB6-7565-4871-9AD1-54E12556A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FC52-E394-4B28-9018-6A1E0C6B2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EC8E-0E5F-4504-A5A9-5359563E5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53D8-FCBC-43DD-AB70-CF236760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F87E-5868-4F84-9EF3-E62511FF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089F-FA25-40F9-B155-0AFE63689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743E-73AE-4A74-B32E-CF5DC77EC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2293-FF29-4F8B-BDDF-5B34451E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7EAE-4229-4046-8D0F-F73B3CB6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4E26-9212-467F-913C-6865A36E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D547-3226-441A-998D-5843FBB1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41A7-F2AC-43DB-BFBF-3AC66F30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B644-9F5E-47B3-A30E-8BFBC778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AC1F-B297-4BF9-9952-A1DBCD2C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DC48-2921-4FCE-833B-E91E1607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1910-18A7-47D2-9088-D5105B3DD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ED 5021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 &amp; Science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ed 5021 Math &amp; Science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tea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ea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the resour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1752480" y="4495680"/>
            <a:ext cx="57150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How do children learn?</a:t>
            </a:r>
            <a:endParaRPr b="0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6324480" y="1752480"/>
            <a:ext cx="2449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ople learn in order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 problems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onstruct patterns and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m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mmo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learn through experienc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learn in order to reduce the cognitive complexity of our live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learn patterns that encompass particular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your math curriculum like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t in Detroit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nig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nce p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e 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 of mar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z d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wooden poles  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cond nig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old c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ball 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tree lim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she left behind a wooden door, a box of newspapers, a 5-gallon can of gasoline, a bunch of tires and an AM radio from an old For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hird nig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iron pi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 aluminum c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ar ax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garbage cans 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Picture 1.png"/>
          <p:cNvPicPr/>
          <p:nvPr/>
        </p:nvPicPr>
        <p:blipFill>
          <a:blip r:embed="rId1"/>
          <a:stretch/>
        </p:blipFill>
        <p:spPr>
          <a:xfrm>
            <a:off x="4638600" y="4498920"/>
            <a:ext cx="1712880" cy="2608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3657600" y="1143000"/>
            <a:ext cx="5283360" cy="2971800"/>
          </a:xfrm>
          <a:prstGeom prst="rect">
            <a:avLst/>
          </a:prstGeom>
          <a:ln w="12600">
            <a:solidFill>
              <a:srgbClr val="b3b3b3"/>
            </a:solidFill>
            <a:miter/>
          </a:ln>
          <a:effectLst>
            <a:outerShdw dist="101520" dir="5400000" blurRad="0" rotWithShape="0">
              <a:srgbClr val="808080">
                <a:alpha val="48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5251320" y="1447920"/>
            <a:ext cx="3892680" cy="25905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t of the sess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: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mathematic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sc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d you do in k-8 math?  sc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: spin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2"/>
          <a:stretch/>
        </p:blipFill>
        <p:spPr>
          <a:xfrm>
            <a:off x="5321160" y="4784760"/>
            <a:ext cx="189072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22:01:12Z</dcterms:created>
  <dc:creator>Seattle University</dc:creator>
  <dc:description/>
  <dc:language>en-US</dc:language>
  <cp:lastModifiedBy>Mark Roddy</cp:lastModifiedBy>
  <cp:lastPrinted>2008-03-04T19:40:59Z</cp:lastPrinted>
  <dcterms:modified xsi:type="dcterms:W3CDTF">2015-03-04T01:58:43Z</dcterms:modified>
  <cp:revision>17</cp:revision>
  <dc:subject/>
  <dc:title>TEED 521 Math &amp; Science Methods</dc:title>
</cp:coreProperties>
</file>